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8EE-3D5C-4D15-A22C-8535D09E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E5D-7791-4797-BDE9-31AC39F1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C3E-840A-4BEB-9BDE-8FE9A5F1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A82-9F53-4FFE-AACA-DB8FE723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3AA-C96A-463B-9A8A-647406D8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E48-D213-4F04-9880-C1CB0D91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6D2-D4AF-487D-9491-62861416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2F1-51AC-480E-9C9E-3E479B54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AA9-9874-423F-8741-EC0CD5A2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B10-71A6-4821-B38B-F28C852D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D37-59E3-4180-892C-4B36647D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B9B-5324-4E24-BF9A-734ED5A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BBB-5861-47FA-BA7F-99A578669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, la, la, il n’y a pas de doute, je suis en route vers mon casse-cr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û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 ha, je reconnais cet endroit. Pfff, la maison de paille, pfff, la masion de bo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us savez comment j’appelle la masion de briques? Je l’appell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charcute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et c’est 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à que je vais faire mes courses, ha ha h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160" y="4800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’ai pe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 à tout pour avoir un bon sandwich au cochon… je suis un professionnel, mo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c, crac et voi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à le travail! Quoi! Personne! Crotte de bique! Hum, à propos de bique, la chèvre habite tout près d’ici avec ses pet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3505320"/>
            <a:ext cx="64767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te, j’efile mon 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guisement, un peu de farine sur la pette, et je suis sûr que les biquets vont tomber dans le pannea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42670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oi, ils sont TOUS sortis?! Qu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à cela ne tienne… direction: la rivière; objectif méchou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776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onne! Ma foi, je suis 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çu, j’espérais bien que l’agneau serait toujours là en train de rêvass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s de gigot, rien que des 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ênes et des roseaux! Puisque les animaux sont absents, voyons du côté des enfant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504960" y="47239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’abord, Pier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419112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en, l’effro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 est dans la forêt. Un bon ragoût de garçonnet en persperctive… mais où le trouver? J’aurais peut-être plus de chance avec le Chaperon roug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742840" y="502884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 vo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à devenu le roi de l’espionnag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657240" y="5333760"/>
            <a:ext cx="5181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ha! Maintenant je sais 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ù elle 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si rapide qu’une f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e, en un instant je serai arrivé chez la grand-mère. À moi la fricassée de fillet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2819520"/>
            <a:ext cx="5867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ens, 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ère-Grand a déménagé?! Qui habite ici maintenant? Monsieur Lapi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352680"/>
            <a:ext cx="5791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i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à qui fera très très bien l’affaire! Rien de tal qu’un bon râble de lapin pour un loup qui a vraiment très très fai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 rot="450600">
            <a:off x="5257440" y="0"/>
            <a:ext cx="1571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um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 rot="450600">
            <a:off x="5790960" y="609120"/>
            <a:ext cx="15714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um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94920" y="5257800"/>
            <a:ext cx="175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e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’est-ce qui leur prend? J’ai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à peine bougé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3760" y="38052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ner, vous avez dit dîner? J’accepte avec grand plais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5257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Je suis le loup. JE SUIS REVEN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4100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us me reconnaissez? Je suis le lou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190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 voici de retour dans la 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gion, encore plus costaud, encore plus intelligent. Un vrai grand méchant loup, quo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4724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 j’ai 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âte de retrouver quelques vieux amis pour leur prouver que je suis le meille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p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évenu les journaux que je ne ferai pas de cadeau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ire de semer la terre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49528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, la, la, oui, je suis beau et magnifique, Je suis vraiment trop fantasti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34:19Z</dcterms:created>
  <dc:creator>CVJH-LAB</dc:creator>
  <dc:description/>
  <dc:language>en-US</dc:language>
  <cp:lastModifiedBy>nield411</cp:lastModifiedBy>
  <dcterms:modified xsi:type="dcterms:W3CDTF">2008-02-23T15:34:40Z</dcterms:modified>
  <cp:revision>4</cp:revision>
  <dc:subject/>
  <dc:title>Slide 1</dc:title>
</cp:coreProperties>
</file>